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C26-2D27-4BDA-B9BB-EC9DA5E9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20E-E829-43D3-B4EB-3724B9E3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C5AD3-8716-46AD-83A6-51202434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6D2FF-0864-42A9-9EF8-EDC629D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8490A-7AAA-42D1-A205-385337FF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60238-7441-4DA2-B256-73330913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0419C-8B6D-4D93-897D-0E97BFFB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DA5E5-059D-41A3-9448-3D48AE6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73C1C-7F66-4597-8E51-F516BFB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8F266-E19E-449A-B6B6-936CB4DC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94F84-9B5E-441A-85E3-7F3C282E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6CE96-3118-4E6D-9B05-D9523219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F9E-62C2-40B4-9835-3692D501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8B7A7-6081-48C3-9FF1-02AB64BF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90553-BDBD-40BE-BF5C-C8374816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AE750-7282-4C22-A70B-EAFA6C06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0C942-2D75-49BA-B45B-3B09A450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594FA-FE28-4166-B519-574C018C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609E7-2835-45F7-959F-8190C1E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D92A2-E79E-4122-8862-AF962B97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DC9A1-8E1E-47BA-8CA7-FF41001E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F9AB8-3FF6-481F-8FFC-4F72865F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6CB12-F185-4630-BD4D-F7C36885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A1D-7B34-4C10-AF54-CAA50370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1C592-3045-464E-83E1-208F98D8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FA905-0B4D-49A3-B5D2-D1C790F9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0397E-4F0C-4F65-90D9-158530D1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B5AB8-ED64-4636-BFD7-1BD67F7A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3C7FA-BE85-455B-AB04-74830295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27EC0-F9B1-4E3A-A8B0-DE43FCAA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49412-2EC4-491B-BA86-C3436BEB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A65E1-39C1-4D8C-8BF1-4E8FBBF4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6A990-9801-4AC6-9067-DC8FE30A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4224D-BBF8-4511-BC88-9A7FA29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7CE2-D7EB-434E-9BAA-DC09488E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7652F-701C-48F2-BABE-70186A3F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FEB14-218A-4B3F-BD69-27F18F4D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2F81D-2E4B-4743-A7E3-AEEA4635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497A2-8F56-482E-A7D6-34DAB050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9D0FD-6C0A-4C17-92B5-82A00C55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FA92F-80AE-4956-A482-DC10380B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6C905-FAF8-45DC-96F8-02452E5F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A3062-6B88-4CD5-9641-BDA7CE2C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4C4B1-EDB0-4C92-BA2B-E2B7B3DB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1AC93-3796-4146-8EBF-6F9D6285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E34F-B64A-4241-AC9D-9E7A97DE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337A9-AE08-4915-9672-AD9AF74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E2267-501B-4726-87E5-0C7A6C10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72271-7AB6-4CB2-808B-58DD2579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E7E48-909B-4BEE-9921-90D95601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41712-B5BB-41B6-AE36-132AAD2B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02C8-591B-4490-9F23-743A6054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B6D6-5CB6-430D-9517-331F806F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5972-A6C0-4D74-85CB-79433BEE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58A9-759D-4EDF-913D-CE73B01A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26CE-79C8-4868-A9F8-0F54DAD8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796-AD98-4635-AECC-285D7C5C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38A4-3CCE-45E9-A031-93A7CB9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BEE2-4D50-455F-A090-9016958B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BEB7-D9EA-44D8-9233-3F4048B3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A8E9-2999-43D0-AD70-BA99D891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A18D-8D66-475E-A26C-A408B876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1306-C0A3-4DD4-86A5-E0CF3CD2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50DA-EDA1-4D2B-AA27-DB209DDC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B702-14FF-462D-B467-2E13E2EC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CBB8-5463-4A32-8DEA-10CBBFF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0A59-A2C8-4927-9C12-1DCBE099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DE7-FE22-4736-AFE4-A9238E52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DCBF-F2F0-451D-9226-9F2FC09C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8B44-98EE-49CD-83A3-D9F975E9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E32A-5957-4160-B3CC-D38320E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5399-6F53-478C-9E53-6BFD15F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8002-C340-4624-BB28-2920ACD6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EB7E-A887-4831-8A40-A0DD0B06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671D-E6DB-4DC4-9EDF-63E4138E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3863-1198-41EE-9AAB-76515B7B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D22E-BD2F-43AE-9C89-E3E93A80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FFB9-5582-4CA0-89E8-BDFD1FA6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062-AB21-4253-A43B-C538A0A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1D85-59D2-4C9D-ABB4-529A5F38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EC9CE-35A9-418D-A343-CCB6DBBB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1A1E-0DA0-4ED5-83DE-5EA3FF36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802D-61B9-46D2-BC20-0D4A9147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BB4D-767A-48A4-9CA9-4BC1FA33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4DAB-A97F-466C-A1E6-EBB53CDC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FF68-F159-4631-B5EF-EADEC85A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0548-34B1-4F6F-B7DF-3C31B9FE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AD40-D37E-4475-B2DF-C0C29646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D79A3-66EF-4EB7-9882-1B2DD431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9B3-FE58-43BE-AB95-5259416D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F478-04B2-4687-8DCD-F1CD8A8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E347-4110-4E32-9DDA-68A4CA12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15F12-056D-4199-992F-71995A30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C572D-41D2-42A6-ADEB-15E1CC1A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BC9C-A560-4560-BEDF-63D2004E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E7FA3-1B2D-4A5E-8B6B-28384A37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D5D7-CDF7-4C35-8A43-2ACC9803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1DE91-8475-4CC8-AC5C-32449C40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03E75-CCF2-4488-86F0-FEE21773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9FEC-5C36-431F-9F32-3B4697F1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851-E838-4297-A5A5-CA9BB203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4D431-43E3-4418-A474-AB526F53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D86E-7FF8-4CD3-9FE9-F3F5F26B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01ACD-02BE-42BB-9ABE-5FA0FE85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182AB-250F-413D-99FC-58C3F458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63AD-F6FA-4066-BF9F-2268E592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B8C7B-DD5F-4415-BF56-0CED52F5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ABAC5-8D58-4C81-8F4D-DDD1D810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165EB-99AD-4DC9-8D04-5ED9F49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D07C-7349-45F9-A253-51E0751E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BACB4-A9B2-4327-ABCA-82D1F56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6F6-184C-4453-8B35-4795FA5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0FE87-9178-4349-8413-330CA683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0E1A1-BCD5-423F-B3F4-DD7CA685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FCE97-F32C-4BB0-BDC2-74116E23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49CD3-56D5-4303-BA1C-65BD3752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33B6A-9DB6-4AC2-B2C5-8F5A0BC7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03C37-6287-4831-B68D-E79EBA2D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A28FE-B2C7-4FE8-926F-8D3C4775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9EA6B-AECD-4EA8-8758-1765B353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C1A3-2511-4FAE-83D4-0F7260CE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A050C-AE32-4D4B-92B5-A3311AAE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1BE-26D2-4302-943F-1347C77A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A812C-815D-4B3A-AB2C-3BCC3595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BE0AC-833B-4B64-AD49-08194B23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FF744-A5D6-4E44-8823-E4D48086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A7491-DEDE-45B2-AD7F-DE9D36BB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9C93D-0A17-4005-8B75-3F1C4668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63B5-F543-4C50-A24D-CF1E940A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AE3B0-723E-4C9E-A6B3-F1BE5622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75B28-799C-4481-ACAC-404F131B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F712-48EC-4686-ACF0-B1FB8D6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582E0-67E2-40B3-919B-DB4C76C8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447-2F5A-49C8-AE41-994E7AD8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CD067-F6C2-4B25-9260-1ACF58AD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789BC-0E05-4F2C-8CF4-D5E0687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78A2-10B8-465E-BA02-DC6F0F58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A4AC3-E75A-487B-BDFA-379CA94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CE381-6C9B-4CDA-A805-0D08FEA5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6A8BC-3100-44CA-B5DC-05B81129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316D1-C19E-47A4-9B03-689D7594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D4CBF-562F-4945-B92B-438F8560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A3C7F-7A93-48B7-A33C-E6D0F27E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2184E-0269-43CC-978F-E09DC22F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5A11-3AE8-4BC4-8709-757EDA4CE30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1D2A-5A6B-457D-8D97-4ECD239D9D3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ADF1-1750-478D-8F09-B1CDCD6CD4F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5519-59EC-4D6F-90E6-E998D7CE6A8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2705-5E99-4DA5-A48B-0F75870020C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97F7-447C-4DF2-956D-0D459E2F2DE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CEAB-B55C-458E-98FA-DD0563B4910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EA66-B7C2-49B4-8417-FE9ADB97147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547-7C1D-420A-9632-632050E933F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6609-D094-461E-89D4-8C08AE9D02F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96C7-9F86-4F4B-9045-F3A659CAF36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838D-5DE1-47C2-90C2-CBCDA80B176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ARPA&#354;II%20ORIENTALI.ppt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28592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46b86"/>
                </a:solidFill>
                <a:latin typeface="Georgia"/>
              </a:rPr>
              <a:t>JOC PENTRU EVALUAREA ELEVIL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d16349"/>
                </a:solidFill>
                <a:latin typeface="Georgia"/>
              </a:rPr>
              <a:t>CARPAŢII MERIDIONALI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Action Button: Forward or Next 3">
            <a:hlinkClick r:id="" action="ppaction://hlinkshowjump?jump=nextslide"/>
          </p:cNvPr>
          <p:cNvSpPr/>
          <p:nvPr/>
        </p:nvSpPr>
        <p:spPr>
          <a:xfrm>
            <a:off x="3786120" y="4429080"/>
            <a:ext cx="1714680" cy="428760"/>
          </a:xfrm>
          <a:custGeom>
            <a:avLst/>
            <a:gdLst>
              <a:gd name="textAreaLeft" fmla="*/ 27720 w 1714680"/>
              <a:gd name="textAreaRight" fmla="*/ 1686960 w 1714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86328" h="21600">
                <a:moveTo>
                  <a:pt x="0" y="0"/>
                </a:moveTo>
                <a:lnTo>
                  <a:pt x="86328" y="0"/>
                </a:lnTo>
                <a:lnTo>
                  <a:pt x="86328" y="21600"/>
                </a:lnTo>
                <a:lnTo>
                  <a:pt x="0" y="21600"/>
                </a:lnTo>
                <a:close/>
              </a:path>
              <a:path fill="lightenLess" w="86328" h="21600">
                <a:moveTo>
                  <a:pt x="0" y="0"/>
                </a:moveTo>
                <a:lnTo>
                  <a:pt x="86328" y="0"/>
                </a:lnTo>
                <a:lnTo>
                  <a:pt x="84928" y="1400"/>
                </a:lnTo>
                <a:lnTo>
                  <a:pt x="1400" y="1400"/>
                </a:lnTo>
                <a:close/>
              </a:path>
              <a:path fill="darken" w="86328" h="21600">
                <a:moveTo>
                  <a:pt x="86328" y="0"/>
                </a:moveTo>
                <a:lnTo>
                  <a:pt x="86328" y="21600"/>
                </a:lnTo>
                <a:lnTo>
                  <a:pt x="84928" y="20200"/>
                </a:lnTo>
                <a:lnTo>
                  <a:pt x="84928" y="1400"/>
                </a:lnTo>
                <a:close/>
              </a:path>
              <a:path fill="darkenLess" w="86328" h="21600">
                <a:moveTo>
                  <a:pt x="8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8" y="20200"/>
                </a:lnTo>
                <a:close/>
              </a:path>
              <a:path fill="lighten" w="8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28" h="21600">
                <a:moveTo>
                  <a:pt x="36157" y="3794"/>
                </a:moveTo>
                <a:lnTo>
                  <a:pt x="50170" y="10800"/>
                </a:lnTo>
                <a:lnTo>
                  <a:pt x="3615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1714680" y="4286160"/>
            <a:ext cx="2000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357120" y="507204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CEPUT</a:t>
            </a: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 ŞI REALIZA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ÎNV. </a:t>
            </a:r>
            <a:r>
              <a:rPr b="1" lang="ro-RO" sz="1800" spc="-1" strike="noStrike">
                <a:solidFill>
                  <a:srgbClr val="000000"/>
                </a:solidFill>
                <a:latin typeface="Georgia"/>
              </a:rPr>
              <a:t>ANGELICĂ GHERGHIŞEAN</a:t>
            </a: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ŞCOALA LUNCAVIŢA, JUD. TULC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6" descr="DCFC0462.JPG"/>
          <p:cNvPicPr/>
          <p:nvPr/>
        </p:nvPicPr>
        <p:blipFill>
          <a:blip r:embed="rId2"/>
          <a:stretch/>
        </p:blipFill>
        <p:spPr>
          <a:xfrm>
            <a:off x="5715000" y="400068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46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384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7b9899"/>
                </a:solidFill>
                <a:latin typeface="Georgia"/>
              </a:rPr>
              <a:t>4.CELE MAI ÎNALTE VÂRFURI, </a:t>
            </a: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MOLDOVEANU(2544m) ŞI NEGOIU(2535m) </a:t>
            </a:r>
            <a:r>
              <a:rPr b="0" lang="ro-RO" sz="2800" spc="-1" strike="noStrike">
                <a:solidFill>
                  <a:srgbClr val="7b9899"/>
                </a:solidFill>
                <a:latin typeface="Georgia"/>
              </a:rPr>
              <a:t>FAC PARTE DIN GRUPA MUNŢILOR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Content Placeholder 2"/>
          <p:cNvSpPr/>
          <p:nvPr/>
        </p:nvSpPr>
        <p:spPr>
          <a:xfrm>
            <a:off x="453960" y="167940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RETEZAT-GODEANU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BUCEG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FĂGĂRAŞULU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DSCF4954.JPG"/>
          <p:cNvPicPr/>
          <p:nvPr/>
        </p:nvPicPr>
        <p:blipFill>
          <a:blip r:embed="rId1"/>
          <a:stretch/>
        </p:blipFill>
        <p:spPr>
          <a:xfrm>
            <a:off x="4381560" y="3143160"/>
            <a:ext cx="4476600" cy="3357720"/>
          </a:xfrm>
          <a:prstGeom prst="rect">
            <a:avLst/>
          </a:prstGeom>
          <a:ln w="0">
            <a:noFill/>
          </a:ln>
        </p:spPr>
      </p:pic>
      <p:sp>
        <p:nvSpPr>
          <p:cNvPr id="651" name="Action Button: Custom 5">
            <a:hlinkClick r:id="rId2" action="ppaction://hlinksldjump"/>
          </p:cNvPr>
          <p:cNvSpPr/>
          <p:nvPr/>
        </p:nvSpPr>
        <p:spPr>
          <a:xfrm>
            <a:off x="785880" y="271476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ction Button: Custom 6">
            <a:hlinkClick r:id="rId3" action="ppaction://hlinksldjump"/>
          </p:cNvPr>
          <p:cNvSpPr/>
          <p:nvPr/>
        </p:nvSpPr>
        <p:spPr>
          <a:xfrm>
            <a:off x="785880" y="37148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ction Button: Custom 7">
            <a:hlinkClick r:id="" action="ppaction://hlinkshowjump?jump=nextslide"/>
          </p:cNvPr>
          <p:cNvSpPr/>
          <p:nvPr/>
        </p:nvSpPr>
        <p:spPr>
          <a:xfrm>
            <a:off x="785880" y="4643280"/>
            <a:ext cx="428400" cy="500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400"/>
              <a:gd name="textAreaBottom" fmla="*/ 472680 h 500400"/>
            </a:gdLst>
            <a:ahLst/>
            <a:rect l="textAreaLeft" t="textAreaTop" r="textAreaRight" b="textAreaBottom"/>
            <a:pathLst>
              <a:path w="21600" h="25227">
                <a:moveTo>
                  <a:pt x="0" y="0"/>
                </a:moveTo>
                <a:lnTo>
                  <a:pt x="21600" y="0"/>
                </a:lnTo>
                <a:lnTo>
                  <a:pt x="21600" y="25227"/>
                </a:lnTo>
                <a:lnTo>
                  <a:pt x="0" y="25227"/>
                </a:lnTo>
                <a:close/>
              </a:path>
              <a:path fill="lightenLess" w="21600" h="25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7">
                <a:moveTo>
                  <a:pt x="21600" y="0"/>
                </a:moveTo>
                <a:lnTo>
                  <a:pt x="21600" y="25227"/>
                </a:lnTo>
                <a:lnTo>
                  <a:pt x="20200" y="23827"/>
                </a:lnTo>
                <a:lnTo>
                  <a:pt x="20200" y="1400"/>
                </a:lnTo>
                <a:close/>
              </a:path>
              <a:path fill="darkenLess" w="21600" h="25227">
                <a:moveTo>
                  <a:pt x="21600" y="25227"/>
                </a:moveTo>
                <a:lnTo>
                  <a:pt x="0" y="25227"/>
                </a:lnTo>
                <a:lnTo>
                  <a:pt x="1400" y="23827"/>
                </a:lnTo>
                <a:lnTo>
                  <a:pt x="20200" y="23827"/>
                </a:lnTo>
                <a:close/>
              </a:path>
              <a:path fill="lighten" w="21600" h="25227">
                <a:moveTo>
                  <a:pt x="0" y="25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56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59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5.ÎN GRUPA MUNŢILOR </a:t>
            </a:r>
            <a:r>
              <a:rPr b="0" lang="ro-RO" sz="3300" spc="-1" strike="noStrike">
                <a:solidFill>
                  <a:srgbClr val="ff0000"/>
                </a:solidFill>
                <a:latin typeface="Georgia"/>
              </a:rPr>
              <a:t>PARÂNGULUI</a:t>
            </a: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 SE AFLĂ RUINELE CETĂŢII DACIC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ARRUBIU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SARMIZEGETU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INOGEŢ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Action Button: Custom 3">
            <a:hlinkClick r:id="rId1" action="ppaction://hlinksldjump"/>
          </p:cNvPr>
          <p:cNvSpPr/>
          <p:nvPr/>
        </p:nvSpPr>
        <p:spPr>
          <a:xfrm>
            <a:off x="500040" y="30002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ction Button: Custom 4">
            <a:hlinkClick r:id="" action="ppaction://hlinkshowjump?jump=nextslide"/>
          </p:cNvPr>
          <p:cNvSpPr/>
          <p:nvPr/>
        </p:nvSpPr>
        <p:spPr>
          <a:xfrm>
            <a:off x="500040" y="400068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ction Button: Custom 5">
            <a:hlinkClick r:id="rId2" action="ppaction://hlinksldjump"/>
          </p:cNvPr>
          <p:cNvSpPr/>
          <p:nvPr/>
        </p:nvSpPr>
        <p:spPr>
          <a:xfrm>
            <a:off x="500040" y="5000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6" descr="DSCF0010.JPG"/>
          <p:cNvPicPr/>
          <p:nvPr/>
        </p:nvPicPr>
        <p:blipFill>
          <a:blip r:embed="rId3"/>
          <a:srcRect l="39177" t="41240" r="22680" b="20276"/>
          <a:stretch/>
        </p:blipFill>
        <p:spPr>
          <a:xfrm>
            <a:off x="4500720" y="2357280"/>
            <a:ext cx="3776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68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71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5840" y="7142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6.UNDE SE AFL</a:t>
            </a:r>
            <a:r>
              <a:rPr b="0" lang="ro-RO" sz="2800" spc="-1" strike="noStrike">
                <a:solidFill>
                  <a:srgbClr val="7b9899"/>
                </a:solidFill>
                <a:latin typeface="Georgia"/>
              </a:rPr>
              <a:t>Ă UN </a:t>
            </a: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PARC NAŢIONAL </a:t>
            </a:r>
            <a:r>
              <a:rPr b="0" lang="ro-RO" sz="2800" spc="-1" strike="noStrike">
                <a:solidFill>
                  <a:srgbClr val="7b9899"/>
                </a:solidFill>
                <a:latin typeface="Georgia"/>
              </a:rPr>
              <a:t>PENTRU OCROTIREA PLANTELOR ŞI ANIMALELOR RARE?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ÎN MUNŢII GODEAN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ÎN MUNŢII RETEZA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ÎN MUNŢII PARÂ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4" name="Picture 3" descr="DSCF5023.JPG"/>
          <p:cNvPicPr/>
          <p:nvPr/>
        </p:nvPicPr>
        <p:blipFill>
          <a:blip r:embed="rId1"/>
          <a:stretch/>
        </p:blipFill>
        <p:spPr>
          <a:xfrm>
            <a:off x="5072040" y="235728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675" name="Action Button: Custom 4">
            <a:hlinkClick r:id="rId2" action="ppaction://hlinksldjump"/>
          </p:cNvPr>
          <p:cNvSpPr/>
          <p:nvPr/>
        </p:nvSpPr>
        <p:spPr>
          <a:xfrm>
            <a:off x="500040" y="307188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ction Button: Custom 5">
            <a:hlinkClick r:id="" action="ppaction://hlinkshowjump?jump=nextslide"/>
          </p:cNvPr>
          <p:cNvSpPr/>
          <p:nvPr/>
        </p:nvSpPr>
        <p:spPr>
          <a:xfrm>
            <a:off x="500040" y="400068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ction Button: Custom 6"/>
          <p:cNvSpPr/>
          <p:nvPr/>
        </p:nvSpPr>
        <p:spPr>
          <a:xfrm>
            <a:off x="500040" y="5000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80" name="Action Button: Forward or Next 5"/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83" name="Action Button: Back or Previous 5"/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1. UNDE SE ÎNTIND CARPAŢII MERIDIONALI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HOTARUL DE NORD AL ŢĂTII       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NOASTRE, PÂNĂ LA VALEA PRAHOVE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VALEA PRAHOVEI, PÂNĂ LA VĂILE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RÂURILOR TIMIŞ, CERNA ŞI BIST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DUNĂRE,PÂNĂ LA VĂILE RÂURILOR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BARCĂU ŞI SOMEŞ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Action Button: Custom 4">
            <a:hlinkClick r:id="rId1" action="ppaction://hlinksldjump"/>
          </p:cNvPr>
          <p:cNvSpPr/>
          <p:nvPr/>
        </p:nvSpPr>
        <p:spPr>
          <a:xfrm>
            <a:off x="571680" y="1714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ction Button: Custom 5">
            <a:hlinkClick r:id="" action="ppaction://hlinkshowjump?jump=nextslide"/>
          </p:cNvPr>
          <p:cNvSpPr/>
          <p:nvPr/>
        </p:nvSpPr>
        <p:spPr>
          <a:xfrm>
            <a:off x="571680" y="314316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ction Button: Custom 6">
            <a:hlinkClick r:id="rId2" action="ppaction://hlinksldjump"/>
          </p:cNvPr>
          <p:cNvSpPr/>
          <p:nvPr/>
        </p:nvSpPr>
        <p:spPr>
          <a:xfrm>
            <a:off x="571680" y="45720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7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.</a:t>
            </a: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o-RO" sz="3300" spc="-1" strike="noStrike">
                <a:solidFill>
                  <a:srgbClr val="ff0000"/>
                </a:solidFill>
                <a:latin typeface="Georgia"/>
              </a:rPr>
              <a:t>BRAN, COZIA, TURNU ROŞU, LAINICI, BĂNIŢA, DOMAŞNEA </a:t>
            </a: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SUNT 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56760" y="1500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LACUR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TRECĂTORI (PASURI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VÂRFUR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Action Button: Custom 3"/>
          <p:cNvSpPr/>
          <p:nvPr/>
        </p:nvSpPr>
        <p:spPr>
          <a:xfrm>
            <a:off x="642960" y="250020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ction Button: Custom 4">
            <a:hlinkClick r:id="" action="ppaction://hlinkshowjump?jump=nextslide"/>
          </p:cNvPr>
          <p:cNvSpPr/>
          <p:nvPr/>
        </p:nvSpPr>
        <p:spPr>
          <a:xfrm>
            <a:off x="642960" y="342900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ction Button: Custom 5"/>
          <p:cNvSpPr/>
          <p:nvPr/>
        </p:nvSpPr>
        <p:spPr>
          <a:xfrm>
            <a:off x="642960" y="450072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6" descr="DSCF4967.JPG"/>
          <p:cNvPicPr/>
          <p:nvPr/>
        </p:nvPicPr>
        <p:blipFill>
          <a:blip r:embed="rId1"/>
          <a:stretch/>
        </p:blipFill>
        <p:spPr>
          <a:xfrm>
            <a:off x="5143680" y="3143160"/>
            <a:ext cx="38019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92" name="Action Button: Forward or Next 5"/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95" name="Action Button: Back or Previous 5"/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8.BOGĂŢIILE CARPAŢILOR MERIDIONALI SUNT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AUR, PLATINĂ, DIAMANT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CĂRBUNI, PĂDURI, PĂŞUNI, TURIS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CALCAR, ARGILĂ, URANI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8" name="Picture 3" descr="DSCF4959.JPG"/>
          <p:cNvPicPr/>
          <p:nvPr/>
        </p:nvPicPr>
        <p:blipFill>
          <a:blip r:embed="rId1"/>
          <a:stretch/>
        </p:blipFill>
        <p:spPr>
          <a:xfrm>
            <a:off x="5786280" y="392904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699" name="Action Button: Custom 4"/>
          <p:cNvSpPr/>
          <p:nvPr/>
        </p:nvSpPr>
        <p:spPr>
          <a:xfrm>
            <a:off x="642960" y="25718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ction Button: Custom 5"/>
          <p:cNvSpPr/>
          <p:nvPr/>
        </p:nvSpPr>
        <p:spPr>
          <a:xfrm>
            <a:off x="642960" y="442908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ction Button: Custom 6">
            <a:hlinkClick r:id="" action="ppaction://hlinkshowjump?jump=nextslide"/>
          </p:cNvPr>
          <p:cNvSpPr/>
          <p:nvPr/>
        </p:nvSpPr>
        <p:spPr>
          <a:xfrm>
            <a:off x="642960" y="3500280"/>
            <a:ext cx="428760" cy="500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400"/>
              <a:gd name="textAreaBottom" fmla="*/ 472680 h 500400"/>
            </a:gdLst>
            <a:ahLst/>
            <a:rect l="textAreaLeft" t="textAreaTop" r="textAreaRight" b="textAreaBottom"/>
            <a:pathLst>
              <a:path w="21600" h="25206">
                <a:moveTo>
                  <a:pt x="0" y="0"/>
                </a:moveTo>
                <a:lnTo>
                  <a:pt x="21600" y="0"/>
                </a:lnTo>
                <a:lnTo>
                  <a:pt x="21600" y="25206"/>
                </a:lnTo>
                <a:lnTo>
                  <a:pt x="0" y="25206"/>
                </a:lnTo>
                <a:close/>
              </a:path>
              <a:path fill="lightenLess" w="21600" h="252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6">
                <a:moveTo>
                  <a:pt x="21600" y="0"/>
                </a:moveTo>
                <a:lnTo>
                  <a:pt x="21600" y="25206"/>
                </a:lnTo>
                <a:lnTo>
                  <a:pt x="20200" y="23806"/>
                </a:lnTo>
                <a:lnTo>
                  <a:pt x="20200" y="1400"/>
                </a:lnTo>
                <a:close/>
              </a:path>
              <a:path fill="darkenLess" w="21600" h="25206">
                <a:moveTo>
                  <a:pt x="21600" y="25206"/>
                </a:moveTo>
                <a:lnTo>
                  <a:pt x="0" y="25206"/>
                </a:lnTo>
                <a:lnTo>
                  <a:pt x="1400" y="23806"/>
                </a:lnTo>
                <a:lnTo>
                  <a:pt x="20200" y="23806"/>
                </a:lnTo>
                <a:close/>
              </a:path>
              <a:path fill="lighten" w="21600" h="25206">
                <a:moveTo>
                  <a:pt x="0" y="252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704" name="Action Button: Forward or Next 5"/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707" name="Action Button: Back or Previous 5"/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5" descr="PH01046J.JPG"/>
          <p:cNvPicPr/>
          <p:nvPr/>
        </p:nvPicPr>
        <p:blipFill>
          <a:blip r:embed="rId1"/>
          <a:stretch/>
        </p:blipFill>
        <p:spPr>
          <a:xfrm>
            <a:off x="2538360" y="428760"/>
            <a:ext cx="3890880" cy="5740200"/>
          </a:xfrm>
          <a:prstGeom prst="rect">
            <a:avLst/>
          </a:prstGeom>
          <a:ln w="0">
            <a:noFill/>
          </a:ln>
        </p:spPr>
      </p:pic>
      <p:pic>
        <p:nvPicPr>
          <p:cNvPr id="709" name="Rectangle 3" descr=""/>
          <p:cNvPicPr/>
          <p:nvPr/>
        </p:nvPicPr>
        <p:blipFill>
          <a:blip r:embed="rId2"/>
          <a:stretch/>
        </p:blipFill>
        <p:spPr>
          <a:xfrm>
            <a:off x="225360" y="4406760"/>
            <a:ext cx="8504280" cy="14446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4"/>
          <p:cNvSpPr/>
          <p:nvPr/>
        </p:nvSpPr>
        <p:spPr>
          <a:xfrm>
            <a:off x="1285920" y="928800"/>
            <a:ext cx="21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Georgia"/>
              </a:rPr>
              <a:t>CLICK AI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7"/>
          <p:cNvSpPr/>
          <p:nvPr/>
        </p:nvSpPr>
        <p:spPr>
          <a:xfrm>
            <a:off x="4357800" y="1500120"/>
            <a:ext cx="357120" cy="357120"/>
          </a:xfrm>
          <a:prstGeom prst="ellips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ight Arrow 8"/>
          <p:cNvSpPr/>
          <p:nvPr/>
        </p:nvSpPr>
        <p:spPr>
          <a:xfrm>
            <a:off x="3143160" y="142884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19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22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2. ÎN CÂTE GRUPE SUNT ÎMPĂRŢIŢI CARPAŢII MERIDIONALI 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3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4 GRUP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Action Button: Custom 3">
            <a:hlinkClick r:id="rId1" action="ppaction://hlinksldjump"/>
          </p:cNvPr>
          <p:cNvSpPr/>
          <p:nvPr/>
        </p:nvSpPr>
        <p:spPr>
          <a:xfrm>
            <a:off x="571680" y="257184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ction Button: Custom 4">
            <a:hlinkClick r:id="" action="ppaction://hlinkshowjump?jump=nextslide"/>
          </p:cNvPr>
          <p:cNvSpPr/>
          <p:nvPr/>
        </p:nvSpPr>
        <p:spPr>
          <a:xfrm>
            <a:off x="571680" y="450072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ction Button: Custom 5">
            <a:hlinkClick r:id="rId2" action="ppaction://hlinksldjump"/>
          </p:cNvPr>
          <p:cNvSpPr/>
          <p:nvPr/>
        </p:nvSpPr>
        <p:spPr>
          <a:xfrm>
            <a:off x="571680" y="350028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6" descr="DSCF4950.JPG"/>
          <p:cNvPicPr/>
          <p:nvPr/>
        </p:nvPicPr>
        <p:blipFill>
          <a:blip r:embed="rId3"/>
          <a:stretch/>
        </p:blipFill>
        <p:spPr>
          <a:xfrm>
            <a:off x="3143160" y="150012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31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34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3.VÂRFUL </a:t>
            </a:r>
            <a:r>
              <a:rPr b="0" lang="ro-RO" sz="3000" spc="-1" strike="noStrike">
                <a:solidFill>
                  <a:srgbClr val="ff0000"/>
                </a:solidFill>
                <a:latin typeface="Georgia"/>
              </a:rPr>
              <a:t>OMU </a:t>
            </a:r>
            <a:r>
              <a:rPr b="0" lang="ro-RO" sz="3000" spc="-1" strike="noStrike">
                <a:solidFill>
                  <a:srgbClr val="88a1ad"/>
                </a:solidFill>
                <a:latin typeface="Georgia"/>
              </a:rPr>
              <a:t>FACE PARTE DIN GRUPA MUNŢILOR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RETEZAT-GODEAN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BUCEG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PARÂNGULU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3" descr="DSCF4952.JPG"/>
          <p:cNvPicPr/>
          <p:nvPr/>
        </p:nvPicPr>
        <p:blipFill>
          <a:blip r:embed="rId1"/>
          <a:stretch/>
        </p:blipFill>
        <p:spPr>
          <a:xfrm>
            <a:off x="4143240" y="3071880"/>
            <a:ext cx="4357800" cy="3268440"/>
          </a:xfrm>
          <a:prstGeom prst="rect">
            <a:avLst/>
          </a:prstGeom>
          <a:ln w="0">
            <a:noFill/>
          </a:ln>
        </p:spPr>
      </p:pic>
      <p:sp>
        <p:nvSpPr>
          <p:cNvPr id="638" name="Action Button: Custom 4">
            <a:hlinkClick r:id="rId2" action="ppaction://hlinksldjump"/>
          </p:cNvPr>
          <p:cNvSpPr/>
          <p:nvPr/>
        </p:nvSpPr>
        <p:spPr>
          <a:xfrm>
            <a:off x="500040" y="242892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ction Button: Custom 5">
            <a:hlinkClick r:id="rId3" action="ppaction://hlinksldjump"/>
          </p:cNvPr>
          <p:cNvSpPr/>
          <p:nvPr/>
        </p:nvSpPr>
        <p:spPr>
          <a:xfrm>
            <a:off x="500040" y="457200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ction Button: Custom 6">
            <a:hlinkClick r:id="" action="ppaction://hlinkshowjump?jump=nextslide"/>
          </p:cNvPr>
          <p:cNvSpPr/>
          <p:nvPr/>
        </p:nvSpPr>
        <p:spPr>
          <a:xfrm>
            <a:off x="500040" y="3500280"/>
            <a:ext cx="428760" cy="500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400"/>
              <a:gd name="textAreaBottom" fmla="*/ 472680 h 500400"/>
            </a:gdLst>
            <a:ahLst/>
            <a:rect l="textAreaLeft" t="textAreaTop" r="textAreaRight" b="textAreaBottom"/>
            <a:pathLst>
              <a:path w="21600" h="25206">
                <a:moveTo>
                  <a:pt x="0" y="0"/>
                </a:moveTo>
                <a:lnTo>
                  <a:pt x="21600" y="0"/>
                </a:lnTo>
                <a:lnTo>
                  <a:pt x="21600" y="25206"/>
                </a:lnTo>
                <a:lnTo>
                  <a:pt x="0" y="25206"/>
                </a:lnTo>
                <a:close/>
              </a:path>
              <a:path fill="lightenLess" w="21600" h="252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6">
                <a:moveTo>
                  <a:pt x="21600" y="0"/>
                </a:moveTo>
                <a:lnTo>
                  <a:pt x="21600" y="25206"/>
                </a:lnTo>
                <a:lnTo>
                  <a:pt x="20200" y="23806"/>
                </a:lnTo>
                <a:lnTo>
                  <a:pt x="20200" y="1400"/>
                </a:lnTo>
                <a:close/>
              </a:path>
              <a:path fill="darkenLess" w="21600" h="25206">
                <a:moveTo>
                  <a:pt x="21600" y="25206"/>
                </a:moveTo>
                <a:lnTo>
                  <a:pt x="0" y="25206"/>
                </a:lnTo>
                <a:lnTo>
                  <a:pt x="1400" y="23806"/>
                </a:lnTo>
                <a:lnTo>
                  <a:pt x="20200" y="23806"/>
                </a:lnTo>
                <a:close/>
              </a:path>
              <a:path fill="lighten" w="21600" h="25206">
                <a:moveTo>
                  <a:pt x="0" y="252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43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3:50:10Z</dcterms:created>
  <dc:creator>ANGELICA</dc:creator>
  <dc:description/>
  <dc:language>en-US</dc:language>
  <cp:lastModifiedBy>ANGELICA</cp:lastModifiedBy>
  <dcterms:modified xsi:type="dcterms:W3CDTF">2009-04-03T03:54:42Z</dcterms:modified>
  <cp:revision>11</cp:revision>
  <dc:subject/>
  <dc:title>CARPAŢII MERIDIONALI</dc:title>
</cp:coreProperties>
</file>